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A83-83C4-463A-8174-FE9E0509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2E8-93B9-40E9-9398-00A52843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03B-1FA2-4BC7-B407-D154AB62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0E9-9DD0-4BC3-B62A-52BFBCF6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A522-C55C-40E3-AF46-20C98772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7BDC-BD2D-42B0-AA55-A6605343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0BDD-C00A-4E7F-BB4B-D8685602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8D71-9721-4DA3-AB42-53A63924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C746-17DA-4DCE-8EF7-44103D53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F98E-4A1D-4A2C-8475-88ED9933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543F-74AD-46E7-A812-063F8100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C94-420C-4DF4-8B46-42BD93A4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79A7-1F81-4FFA-A909-4A231CFF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F248-73C9-4B9C-BF6C-600A39A3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1025-18CE-4966-90B5-702A57DD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7BA4-4489-4ACD-8528-D12B7FDD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79A6-02A8-4263-A589-BE4E0996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F648-596C-4A71-AE42-B1F41443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F6E97-0594-4C41-8895-76CE62C1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B7AEF-C09C-4318-B0DB-D93FA329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100F3-7024-4900-A0B3-3FF5A000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FFAD-6ED1-4ABB-86F5-D1F54D78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B63-1B66-4FE3-A267-F1B5F606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3E6C6-0917-47C0-9C79-3B864331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02CE-93F7-41DB-BEEA-8ED17DC4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BBA5F-5A2B-4026-A10A-4F489BB6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6ED3-772D-4C2A-80B5-11CF8F0D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CD851-B9AD-48E1-91C1-12394072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254A-EA4B-4D66-9468-2C6288F8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66F29-3949-4C5F-B321-669BDA3A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5B94-C383-4B7A-A1FB-19B00610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596C-6A03-4324-9F50-E705F284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57FEB-E91A-4660-823B-67CB36E5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B2C-5DF6-4284-8B82-DF49D8BC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0DE0E-D5E5-484F-979C-1C6B9235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3D9C-C43B-438B-B474-ACA0FD4C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8307D-ADB6-4B44-89DD-36A28C4B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3067-8418-48B2-AD9B-E975210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856BB-EB5D-4AB5-9859-8B08ABE1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BE1E9-D2A4-4DD3-8B9B-8E0576ED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F32BC-68A2-4AC4-9689-C063126E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20BF1-EEC3-43E0-88B7-F08120BF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4845E-9C1A-4903-9A3A-DBF5A141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EC9B8-1905-48CC-91A2-2ABFA69C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8FD-A292-4714-BC02-EE7A4D45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1B65A-ADCD-4509-82E1-E6D3BFE7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9ADF4-B9FD-4FE1-8950-0E0E0073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74282-2389-4FF2-934F-3317E5B9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E49DB-852E-429F-B422-36570B2C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2577A-92C1-4699-B327-8870591F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3E187-E9A8-421C-A78C-A61CB9CE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A189C-7A68-4637-B101-9D6C482D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F02C4-0A10-4459-9E8E-D6DC936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6D48C-A758-4C49-824F-CC8BCEE1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CEC03-4F87-4E98-9B2C-64D0425C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371-A089-4D4F-B88E-84527AE1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B88D3-A3E4-42B4-898C-BC70AB6B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9AE01-0163-4099-A366-44454AAA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479EE-477D-4B6D-9B4D-1A0DD76B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F67E3-AF82-42CC-BC87-68D2EF13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76FC2-5896-478D-9496-E44FC2C2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D796F-31B6-479B-B372-512D1055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85374-8E62-46E4-A39A-E3BCE3F2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88808-D189-4ED6-B03B-88869C80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86F38-5026-47EE-81A4-7A5D8F40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4F93A-5F72-45B0-8104-44F8E0A9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EDC-C489-4400-9945-B6747571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3B3FA-50CE-46AB-8260-40DF2899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203F6-5122-49A5-BE2C-5CE86DA2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CC39B-5B4C-4E00-BB67-807AD9EF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B0C54-5A80-4752-BA39-109197AB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29BC4-4D32-434A-B7DB-22CC0318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C5B89-20F3-4ED9-961D-D5D4366A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66612-D05C-4E80-BA28-FCB546E8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B80CF-A19C-47A4-B31A-A107A671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06479-8881-4D8A-9347-70CBC003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35121-97FC-4FA7-8AB1-CBDA23A1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A50-AB08-48CF-8100-D096E887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F8473-A6B6-4A00-B6B2-09ECE10A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91CE6-CDCD-4A9F-98C4-3EAEB260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AE6D4-8718-478D-9968-A5D283BC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47D56-155A-4F89-8E7F-899E1F3D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2B692-52FD-4A0E-ACAB-36A1EC70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6FFB8-6805-4308-A2CE-437F0755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C0DDA-2E18-4EB6-BF00-EFA565F8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3BE3A-251A-4A48-B89A-434477E7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E1A0B-56F1-4AA2-A981-B7EEDB37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6DFBC-CA92-4836-96C1-7F6568AF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E1A-5268-40AA-B6F6-BF2AB6C6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DDA80-C9BE-4448-8151-5564C1ED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FDBBF-2D86-47F6-8D8F-C268CB56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C3010-75BD-4D38-9A05-3DE37322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1CC8D-1224-4D6D-ADB2-94581880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4CB10-BD53-4EB3-8C15-EE4F75AE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4FC48-4ECE-417D-8902-DB805BDB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C5E5D-A6BE-4DCD-86B6-1E980B8A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未知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未知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未知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未知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未知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未知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未知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未知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35" name="未知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未知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未知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未知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未知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未知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未知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未知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未知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53" name="未知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745C-B681-403E-953F-D0B8BE5EB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未知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140" name="未知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158" name="未知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90FA-CA3B-4B64-81E8-C42888593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F47B-2122-4D9F-BD18-C9A325E2D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FA7B-24F3-4898-9DBB-92D327890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93" name="未知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7305480" y="6372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7296120" y="63439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223120" y="5678640"/>
              <a:ext cx="482760" cy="11764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7807320" y="5640480"/>
              <a:ext cx="49824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461000" y="586908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7178400" y="5888160"/>
              <a:ext cx="33840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6813360" y="6248520"/>
              <a:ext cx="26532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6508800" y="6382080"/>
              <a:ext cx="26352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6207120" y="6410520"/>
              <a:ext cx="37620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5832360" y="64868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4832280" y="66963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D129-FA9D-46EB-B479-6FDD40BC0E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0" name="未知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7305480" y="6372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7296120" y="63439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8223120" y="5678640"/>
              <a:ext cx="482760" cy="11764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7807320" y="5640480"/>
              <a:ext cx="49824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7461000" y="586908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7178400" y="5888160"/>
              <a:ext cx="33840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6813360" y="6248520"/>
              <a:ext cx="26532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6508800" y="6382080"/>
              <a:ext cx="26352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6207120" y="6410520"/>
              <a:ext cx="37620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5832360" y="64868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4832280" y="66963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0BA7-63EF-405D-A15E-A9FED5BFA4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06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CD5E-D5D5-47DF-AEDE-9D3FB3873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6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9E6B-AF46-41C7-A998-4BEC73998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欢迎您参加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国家普通话水平测试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819640" y="6524280"/>
            <a:ext cx="7308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二、核对信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820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仔细核对您的个人信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信息无误，单击“确认”按钮继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信息有误，请单击“返回”按钮重新登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再次登录后信息仍然有误，请告知考务人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24000" y="47628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核对信息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802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核对信息后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等待考试指令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，请您稍加等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360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等待考试指令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24000" y="3284280"/>
            <a:ext cx="716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三、试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用正常说话的音量朗读主屏中的个人测试信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系统会自动调节，以适应您的音量，您不用作任何操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37450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三、试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330960" cy="4748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试音结束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等待考试指令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，请您稍加等待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382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等待考试指令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195640" y="2997360"/>
            <a:ext cx="727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476360" y="1711440"/>
            <a:ext cx="6405480" cy="4556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477720"/>
            <a:ext cx="4619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四、  开始考试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普通话水平测试共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项题目，系统会依次显示各项内容，您只需根据屏幕显示的试题内容进行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每项试题前都有一段语音提示，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40431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考试时…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过程中，应做到吐字清晰，语速适中，音量同试音时保持大体一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过程中，请注意主屏下方的时间提示，确保在规定的时间内完成每项考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计算机辅助普通话水平测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应 试 指 南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海市语言文字水平测试中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4186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考试时…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规定时间结束，系统会自动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某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项  读单音节字词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19060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该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14440" y="328680"/>
            <a:ext cx="7981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项  读多音节词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如该项试题时间有余，单击屏幕右下角的“下一题”按钮，可进入下一项试题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6807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项  朗读短文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7040" y="1991880"/>
            <a:ext cx="792972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该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项  命题说话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开始时，请读出所选话题名称。如：我说的话题是“我尊敬的人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题必须说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钟（请按主屏下方的时间提示把握时间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453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五、结束考试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说话结束后，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恭喜您考试成功，请摘下耳机，轻轻离开考场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，表示考试已结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您不用进行任何操作，即可离开试场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一） 测 前 准 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08668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验证《准考证》信息是否有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《准考证》应贴上规范的证件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参加测试必须携带《身份证》和《准考证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《准考证》规定的时间准时参加测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6097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考试结束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51280" y="321264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33829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99"/>
                </a:solidFill>
                <a:latin typeface="黑体"/>
                <a:ea typeface="黑体"/>
              </a:rPr>
              <a:t>特别提示：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73400"/>
            <a:ext cx="82296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考试过程中，考生不要说试卷以外的任何内容，以免影响考试成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如有疑问，请举手示意，工作人员会及时前来解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24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下面，将所有测试界面连续演示一遍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769240" y="6441840"/>
            <a:ext cx="1238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二）测试流程简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77979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报到室→准备室→测试室→离开考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97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计算机辅助测试的几个</a:t>
            </a: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注  意  事  项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819640" y="6092640"/>
            <a:ext cx="73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6840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  <a:ea typeface="楷体_GB2312"/>
              </a:rPr>
              <a:t>：我有多少时间准备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6776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计算机测试同人工测试一样，会安排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分钟左右时间让考生在准备室作测前准备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939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为何“等待考试指令”有时时间较长？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所有的考试机是连接在同一个测试平台上的，当所有考生都完成该步骤后，才能进入下一个测试环节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因此，进入测试室后，请您立即登录测试系统，不要延误时间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6624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我用什么样的音量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正常说话的音量</a:t>
            </a:r>
            <a:r>
              <a:rPr b="1" lang="en-US" sz="3200" spc="-1" strike="noStrike">
                <a:solidFill>
                  <a:srgbClr val="eaeaea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一般两、三人之间交谈的音量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试音和考试过程音量应一致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见问题是说话声音越来越小，嘀嘀咕咕的，像说悄悄话，这样可能会影响录音效果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855b"/>
                </a:solidFill>
                <a:latin typeface="Arial"/>
                <a:ea typeface="楷体_GB2312"/>
              </a:rPr>
              <a:t> 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什么样的语速合适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87487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每题的时间安排都比较宽裕，测试时要做到吐字清晰完整，语速从容稳当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见问题是读得太快。一读快，字与字都粘在一起，每一个字都不清晰，都不完整，都容易有缺陷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如何避免漏字、漏行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读字、读词两项容易漏字、漏行。测试时，应看清字、词，从容地朗读，即使有不认识的字，也应揣摩着读一下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尤其在换行时，可稍放慢速度，看清后再读，不要漏行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测试时，前三项如果有“漏读”现象是要按字扣分的，所以要注意避免漏读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三）应 试 注 意 事 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8200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测试时做到音量适中，吐字清晰，语速恰当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说同测试无关的内容，有问题请举手示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规定程序操作计算机，不进行违规操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维护考场秩序，杜绝作弊行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40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发现读错能重读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第一项和第二项如果有个别字词读错后重复读一遍，计算机系统会自动进行识别，不会因为一个字的重读而影响整体评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但不要每个字、词都重复读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考试时沉着冷静，尽量避免错读。</a:t>
            </a:r>
            <a:r>
              <a:rPr b="0" lang="en-US" sz="3600" spc="-1" strike="noStrike">
                <a:solidFill>
                  <a:srgbClr val="5e855b"/>
                </a:solidFill>
                <a:latin typeface="Verdana"/>
                <a:ea typeface="楷体_GB2312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45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7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缺乏对象感怎么办？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调整心态和测试状态，想象着自己是面对着朋友、同伴在说话</a:t>
            </a:r>
            <a:r>
              <a:rPr b="0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。</a:t>
            </a: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5191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怎样把握时间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  <a:ea typeface="楷体_GB2312"/>
              </a:rPr>
              <a:t>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每道题目的下方都有时间滚动条，你能清晰地了解每题的用时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前三项的时间很充裕，每项读完通常都会有时间多余，可以点击右下方的“下一题”按钮，系统便会进入下一题测试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说话项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也要注意时间滚动条，因为这一项一定要说满三分钟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9</a:t>
            </a:r>
            <a:r>
              <a:rPr b="0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、说话项能背稿子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487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说话的</a:t>
            </a: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个题目应事先作充分准备，考试时应按题目要求讲述。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话项由测试员根据录音评判，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如有背稿子、离题、不断重复、缺时等现象，都会被扣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周围噪音会影响我的成绩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889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e855b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不会！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各个机位有一定的距离</a:t>
            </a: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为保证录音效果，测试选用的话筒能屏蔽别处的声音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专注于自己的考试，不要刻意去听别人的声音，以免影响自己的发挥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52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1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考场上遇到问题怎么办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2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855b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测试前应尽量解决所有操作上的疑问，测试时不要说同测试内容无关的话。如遇问题，应举手示意，由考务人员前来处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测试用计算机可以任意操作吗？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测试时，应按规定程序操作计算机。不要随意操作计算机，不要按动同测试操作无关的其它按钮，也不要拉扯各种连接线，以防出现影响录音的情况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3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考试后《准考证》要上交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录入准考证号并核对个人信息后，请将《准考证》置于靠走道的考试桌桌上角，以便考务人员收取（《准考证》上的照片要用来制作证书）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祝您顺利通过普通话水平测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四）应  试  实  测  程  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由考务人员引导进入计算机测试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编号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就座后戴上耳机（麦克风戴在左耳），并将话筒置于口腔前方偏下位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点击“下一步”按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进入机测程序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78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登录准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616360" cy="4176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、考生登录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输入您的准考证号的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位数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“进入”按钮继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果输入有误，单击“修改”按钮重新输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80880" y="457200"/>
            <a:ext cx="685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、考生登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93080" cy="464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8:27:14Z</dcterms:created>
  <dc:creator>TingSHINN</dc:creator>
  <dc:description/>
  <dc:language>en-US</dc:language>
  <cp:lastModifiedBy>hp</cp:lastModifiedBy>
  <cp:lastPrinted>1899-12-30T00:00:00Z</cp:lastPrinted>
  <dcterms:modified xsi:type="dcterms:W3CDTF">2009-04-10T04:21:33Z</dcterms:modified>
  <cp:revision>88</cp:revision>
  <dc:subject/>
  <dc:title>PowerPoint 演示文稿</dc:title>
</cp:coreProperties>
</file>